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F55B-EDCD-41E6-B877-B9E4B0BE1E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C87F-46D5-46E9-9B55-23B8A2D6949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679-C7E5-42CC-885C-E8E178B8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951E-9427-42C3-9ACE-A54ABB6F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5F94-80A9-4A1C-8270-6943CAA0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AE37-61CB-41AB-9364-55DC8558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E14-2DE3-46AC-9A90-978BB9A0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1061-489A-4BE7-8C2D-FB51274F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8696-04CA-4AC7-A443-7B068656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E978-DFB2-4063-9232-53D8443D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0A6-E94F-44E2-840E-FDB588CD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C490-0340-4BF4-B405-F673F825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53B9-A369-4F5B-9AB5-C097D75D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CD14-9A20-4887-87BE-E41DB4D2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7000"/>
          </a:bodyPr>
          <a:p>
            <a:pPr marL="372240" indent="-372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6760" indent="-309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40920" indent="-247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38440" indent="-2476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35600" indent="-2491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35600" indent="-2491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35600" indent="-2491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fld id="{B4F1E218-E38D-423C-B198-81C9F4C7AFF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ppsmania.net/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ppsmania.net/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ppsmania.fr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creenShot1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ligneetoile"/>
          <p:cNvPicPr/>
          <p:nvPr/>
        </p:nvPicPr>
        <p:blipFill>
          <a:blip r:embed="rId2"/>
          <a:stretch/>
        </p:blipFill>
        <p:spPr>
          <a:xfrm>
            <a:off x="2124000" y="5157720"/>
            <a:ext cx="4902120" cy="216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4"/>
          <p:cNvSpPr/>
          <p:nvPr/>
        </p:nvSpPr>
        <p:spPr>
          <a:xfrm flipH="1" rot="5400000">
            <a:off x="4514040" y="-4469760"/>
            <a:ext cx="115920" cy="9144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6"/>
          <p:cNvSpPr/>
          <p:nvPr/>
        </p:nvSpPr>
        <p:spPr>
          <a:xfrm flipH="1" rot="5400000">
            <a:off x="4514040" y="2183400"/>
            <a:ext cx="115920" cy="9144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mage 8" descr="BanHautpageindexminippsmania.jpg">
            <a:hlinkClick r:id="rId3"/>
          </p:cNvPr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3419640" y="741240"/>
            <a:ext cx="2377800" cy="625680"/>
          </a:xfrm>
          <a:prstGeom prst="rect">
            <a:avLst/>
          </a:prstGeom>
          <a:ln w="0">
            <a:noFill/>
          </a:ln>
        </p:spPr>
      </p:pic>
      <p:pic>
        <p:nvPicPr>
          <p:cNvPr id="54" name="Image 9" descr="BanHautpageindex.jpg">
            <a:hlinkClick r:id="rId5"/>
          </p:cNvPr>
          <p:cNvPicPr/>
          <p:nvPr/>
        </p:nvPicPr>
        <p:blipFill>
          <a:blip r:embed="rId6">
            <a:lum contrast="42000"/>
          </a:blip>
          <a:stretch/>
        </p:blipFill>
        <p:spPr>
          <a:xfrm>
            <a:off x="2087640" y="3959280"/>
            <a:ext cx="5032440" cy="5302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"/>
          <p:cNvSpPr/>
          <p:nvPr/>
        </p:nvSpPr>
        <p:spPr>
          <a:xfrm>
            <a:off x="2120760" y="4506840"/>
            <a:ext cx="4902480" cy="6494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efefe"/>
              </a:gs>
              <a:gs pos="100000">
                <a:srgbClr val="bbe0e3"/>
              </a:gs>
            </a:gsLst>
            <a:lin ang="5400000"/>
          </a:gradFill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240" rIns="10224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fr-CA" sz="30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fr-CA" sz="3300" spc="-1" strike="noStrike" u="sng">
                <a:solidFill>
                  <a:srgbClr val="009999"/>
                </a:solidFill>
                <a:uFillTx/>
                <a:latin typeface="Arial Rounded MT Bold"/>
                <a:hlinkClick r:id="rId7"/>
              </a:rPr>
              <a:t>http://ppsmania.f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116760"/>
            <a:ext cx="91440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lic gauche pour arrê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252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0" bIns="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Je fais partie des 200 créateurs de PPSMANIA, tous bénévoles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5:24:00Z</dcterms:created>
  <dc:creator>PPSMANIA</dc:creator>
  <dc:description>
</dc:description>
  <dc:language>en-US</dc:language>
  <cp:lastModifiedBy>Chris MAYESKI</cp:lastModifiedBy>
  <dcterms:modified xsi:type="dcterms:W3CDTF">2010-10-19T10:15:09Z</dcterms:modified>
  <cp:revision>16</cp:revision>
  <dc:subject/>
  <dc:title>Diapositive 1</dc:title>
</cp:coreProperties>
</file>